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786-2658-4954-8B29-751DB948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465-E207-4628-9F91-89B8AAEA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BF1-BF82-4996-AD28-97559AB5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71B-28E0-45C3-84E4-46C1EDA6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482-F14F-41A9-93C9-7BE53885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1F6-1EC9-4179-BEB8-35649C94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E3B-7EC7-4879-9897-3EC50965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6CF-1436-4779-BF84-1D84E578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A81-4DA9-49F4-A345-01C5D522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88B-FA7B-43F0-9832-06F4F4E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A93-70A2-4DBB-BAC5-2CA813D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D33-3590-49E5-BE4B-2E6BDBA1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BC11-FBB2-4993-B487-F2A094E53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hyperlink" Target="mailto:hzumaeta@renaissancecharter.or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8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2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3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seguimos el repaso para el examen del jue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handout that was distributed last Friday; complete p. 8.66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st for Writing Pro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6360" y="1066680"/>
            <a:ext cx="208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el preté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INE QUIZ; DUE BY MIDNIGHT TONIGH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PassCode: ASD4003c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: READ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 dia de cultura latina Self-Check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bmitting the quiz, complete the bottom section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TEACHER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zumaeta@renaissancecharter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4:30:58Z</dcterms:created>
  <dc:creator>Helen Zumaeta</dc:creator>
  <dc:description/>
  <dc:language>en-US</dc:language>
  <cp:lastModifiedBy>Helen Zumaeta</cp:lastModifiedBy>
  <dcterms:modified xsi:type="dcterms:W3CDTF">2013-01-22T19:12:16Z</dcterms:modified>
  <cp:revision>6</cp:revision>
  <dc:subject/>
  <dc:title>Me llamo _______ Clase 8 im La fecha es el 18 de enero del 2013</dc:title>
</cp:coreProperties>
</file>